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3.wmf" ContentType="image/x-wmf"/>
  <Override PartName="/ppt/media/image8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4.gif" ContentType="image/gif"/>
  <Override PartName="/ppt/media/image37.png" ContentType="image/png"/>
  <Override PartName="/ppt/media/image13.wmf" ContentType="image/x-wmf"/>
  <Override PartName="/ppt/media/image38.png" ContentType="image/png"/>
  <Override PartName="/ppt/media/image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92B8-E3F8-4D99-B176-0A18E22093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empting to combin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use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rning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t is tempting to combine th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stead use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correct principles to simplify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e the correct principles to simplify the following: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known as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i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ot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is is known as the 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happens when it is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not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egative 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turn of th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soluti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solution t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te the graph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x-axi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damental Theorem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at complex includes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mber of Zero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of degree n has at most n distinct ze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plain how theorems apply to thes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Fundamental Theorem of Algebr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Remember that complex includes real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Number of Zero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of degree n has at most n distinct zero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Explain how theorems apply to these graph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Zeroe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with real coeffic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+ bi is a zero, then a – bi will also be a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jugate Zeroe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iven a polynomial with real coefficient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f a + bi is a zero, then a – bi will also be a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ge 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rcises 1 – 78  E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Page 211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Exercises 1 – 78  EO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inary Numbe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powers if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Imaginary Number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y defin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powers if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ab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real numbers with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bine real numbers with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se complex numbers in standard form   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rite these complex numbers in standard form   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can be combined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can be combined with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ech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 techniqu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tang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red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sible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o Rectangula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sired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with complex on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o use the correct character for i. Use 2nd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with complex on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ke sure to use the correct character for i. Use 2nd-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C43-9FE5-4DA8-8C4E-5B25ACD7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4CC-C855-474B-BA8B-B8F37F39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D50-5FF6-4270-A695-33D3AA60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FDF-496D-4F24-9915-26F916ED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4C6-02D7-431D-AC38-5F1A78D7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1FC8-C342-4754-A52C-BE73B3D8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EEF1-4C3D-42B0-9FE3-2294DD17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C5E7-6060-4184-8813-FFD198E3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5A31-1484-4603-86D7-BCAF41A0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7C75-607A-476D-8539-8317D7D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0996-5982-4851-A1CC-A99C48B5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B82-48E6-41E9-8AF1-AAB43DEA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8F16-B035-4D9E-9FF8-00E62FB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437C-71BC-452F-BFEB-E61DC2DA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4658-E29E-415E-9590-8632E2B1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FDA7-3748-41FB-BF2A-D243EEDF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0EAD-DF09-4A75-9EE4-FECCA290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260-AC8C-443E-ABCD-F0252BFA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229-768B-4C20-9257-0FFCF455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6CB-4F45-44C3-A62F-1DC4A31B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EBE-B097-4D74-8418-F22F9D94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879-BE5E-4AAB-8FA3-3D5DE8C1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52A-720B-4A63-BE61-F40B44EE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481-7220-497A-A668-DD42B97E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E77F-5ECC-44DB-ADF1-62D2E0162D32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8035920" y="2984400"/>
            <a:ext cx="791640" cy="1295280"/>
            <a:chOff x="8035920" y="2984400"/>
            <a:chExt cx="791640" cy="1295280"/>
          </a:xfrm>
        </p:grpSpPr>
        <p:sp>
          <p:nvSpPr>
            <p:cNvPr id="75" name="Oval 9"/>
            <p:cNvSpPr/>
            <p:nvPr/>
          </p:nvSpPr>
          <p:spPr>
            <a:xfrm>
              <a:off x="8035920" y="298440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8203680" y="298440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8371800" y="298440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8035920" y="315216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8203680" y="315216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8371800" y="315216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5"/>
            <p:cNvSpPr/>
            <p:nvPr/>
          </p:nvSpPr>
          <p:spPr>
            <a:xfrm>
              <a:off x="8539560" y="315216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6"/>
            <p:cNvSpPr/>
            <p:nvPr/>
          </p:nvSpPr>
          <p:spPr>
            <a:xfrm>
              <a:off x="8035920" y="332028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7"/>
            <p:cNvSpPr/>
            <p:nvPr/>
          </p:nvSpPr>
          <p:spPr>
            <a:xfrm>
              <a:off x="8203680" y="332028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8"/>
            <p:cNvSpPr/>
            <p:nvPr/>
          </p:nvSpPr>
          <p:spPr>
            <a:xfrm>
              <a:off x="837180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853956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8707680" y="332028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8035920" y="3488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2"/>
            <p:cNvSpPr/>
            <p:nvPr/>
          </p:nvSpPr>
          <p:spPr>
            <a:xfrm>
              <a:off x="8203680" y="3488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3"/>
            <p:cNvSpPr/>
            <p:nvPr/>
          </p:nvSpPr>
          <p:spPr>
            <a:xfrm>
              <a:off x="8371800" y="348804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4"/>
            <p:cNvSpPr/>
            <p:nvPr/>
          </p:nvSpPr>
          <p:spPr>
            <a:xfrm>
              <a:off x="8539560" y="3488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5"/>
            <p:cNvSpPr/>
            <p:nvPr/>
          </p:nvSpPr>
          <p:spPr>
            <a:xfrm>
              <a:off x="8035920" y="3656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6"/>
            <p:cNvSpPr/>
            <p:nvPr/>
          </p:nvSpPr>
          <p:spPr>
            <a:xfrm>
              <a:off x="8203680" y="365616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7"/>
            <p:cNvSpPr/>
            <p:nvPr/>
          </p:nvSpPr>
          <p:spPr>
            <a:xfrm>
              <a:off x="837180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8"/>
            <p:cNvSpPr/>
            <p:nvPr/>
          </p:nvSpPr>
          <p:spPr>
            <a:xfrm>
              <a:off x="853956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9"/>
            <p:cNvSpPr/>
            <p:nvPr/>
          </p:nvSpPr>
          <p:spPr>
            <a:xfrm>
              <a:off x="8707680" y="3656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30"/>
            <p:cNvSpPr/>
            <p:nvPr/>
          </p:nvSpPr>
          <p:spPr>
            <a:xfrm>
              <a:off x="8035920" y="382428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1"/>
            <p:cNvSpPr/>
            <p:nvPr/>
          </p:nvSpPr>
          <p:spPr>
            <a:xfrm>
              <a:off x="8203680" y="382428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2"/>
            <p:cNvSpPr/>
            <p:nvPr/>
          </p:nvSpPr>
          <p:spPr>
            <a:xfrm>
              <a:off x="8371800" y="382428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3"/>
            <p:cNvSpPr/>
            <p:nvPr/>
          </p:nvSpPr>
          <p:spPr>
            <a:xfrm>
              <a:off x="8539560" y="382428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4"/>
            <p:cNvSpPr/>
            <p:nvPr/>
          </p:nvSpPr>
          <p:spPr>
            <a:xfrm>
              <a:off x="8035920" y="399204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5"/>
            <p:cNvSpPr/>
            <p:nvPr/>
          </p:nvSpPr>
          <p:spPr>
            <a:xfrm>
              <a:off x="8203680" y="399204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6"/>
            <p:cNvSpPr/>
            <p:nvPr/>
          </p:nvSpPr>
          <p:spPr>
            <a:xfrm>
              <a:off x="837180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>
              <a:off x="853956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8"/>
            <p:cNvSpPr/>
            <p:nvPr/>
          </p:nvSpPr>
          <p:spPr>
            <a:xfrm>
              <a:off x="8203680" y="416016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9"/>
            <p:cNvSpPr/>
            <p:nvPr/>
          </p:nvSpPr>
          <p:spPr>
            <a:xfrm>
              <a:off x="8539560" y="416016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5DF7-3496-4E48-8A97-2796E8F81069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Warning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7440" y="1752480"/>
            <a:ext cx="8566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t is tempting to combine th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Instead use imaginary number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40" name="Picture 4" descr="j0163107"/>
          <p:cNvPicPr/>
          <p:nvPr/>
        </p:nvPicPr>
        <p:blipFill>
          <a:blip r:embed="rId1"/>
          <a:stretch/>
        </p:blipFill>
        <p:spPr>
          <a:xfrm>
            <a:off x="4044960" y="514440"/>
            <a:ext cx="1000080" cy="780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j0213521"/>
          <p:cNvPicPr/>
          <p:nvPr/>
        </p:nvPicPr>
        <p:blipFill>
          <a:blip r:embed="rId2"/>
          <a:stretch/>
        </p:blipFill>
        <p:spPr>
          <a:xfrm>
            <a:off x="7097760" y="3414600"/>
            <a:ext cx="952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6"/>
          <p:cNvGraphicFramePr/>
          <p:nvPr/>
        </p:nvGraphicFramePr>
        <p:xfrm>
          <a:off x="3828960" y="1724040"/>
          <a:ext cx="210024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1724040"/>
                    <a:ext cx="21002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1940040" y="3525840"/>
          <a:ext cx="4898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0040" y="3525840"/>
                    <a:ext cx="4898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1757520" y="5856120"/>
          <a:ext cx="49273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7520" y="5856120"/>
                    <a:ext cx="4927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e the correct principles to simplify the following: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4721400" y="2727360"/>
          <a:ext cx="20620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2727360"/>
                    <a:ext cx="2062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1201680" y="3838680"/>
          <a:ext cx="340056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1680" y="3838680"/>
                    <a:ext cx="3400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4235400" y="5014800"/>
          <a:ext cx="207504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5400" y="5014800"/>
                    <a:ext cx="2075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               </a:t>
            </a:r>
            <a:br>
              <a:rPr sz="3900"/>
            </a:b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expression under the radical in the quadratic formula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is is known as th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happens when it is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</a:rPr>
              <a:t>not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Zero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egative 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4265640" y="2478240"/>
          <a:ext cx="20113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2478240"/>
                    <a:ext cx="2011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5"/>
          <p:cNvSpPr/>
          <p:nvPr/>
        </p:nvSpPr>
        <p:spPr>
          <a:xfrm>
            <a:off x="5029200" y="2533680"/>
            <a:ext cx="13190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6178680" y="2233440"/>
            <a:ext cx="32688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4" name="WordArt 7" descr=""/>
          <p:cNvPicPr/>
          <p:nvPr/>
        </p:nvPicPr>
        <p:blipFill>
          <a:blip r:embed="rId3"/>
          <a:stretch/>
        </p:blipFill>
        <p:spPr>
          <a:xfrm>
            <a:off x="1590840" y="189000"/>
            <a:ext cx="3114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3117960" y="5251320"/>
            <a:ext cx="3781440" cy="1606680"/>
            <a:chOff x="3117960" y="5251320"/>
            <a:chExt cx="3781440" cy="1606680"/>
          </a:xfrm>
        </p:grpSpPr>
        <p:sp>
          <p:nvSpPr>
            <p:cNvPr id="266" name="AutoShape 9"/>
            <p:cNvSpPr/>
            <p:nvPr/>
          </p:nvSpPr>
          <p:spPr>
            <a:xfrm>
              <a:off x="3117960" y="5251320"/>
              <a:ext cx="3781440" cy="1606680"/>
            </a:xfrm>
            <a:prstGeom prst="irregularSeal1">
              <a:avLst/>
            </a:prstGeom>
            <a:solidFill>
              <a:srgbClr val="808080"/>
            </a:solidFill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3490920" y="5735520"/>
              <a:ext cx="2895480" cy="459720"/>
            </a:xfrm>
            <a:prstGeom prst="rect">
              <a:avLst/>
            </a:prstGeom>
            <a:solidFill>
              <a:srgbClr val="5c8a8a"/>
            </a:solidFill>
            <a:ln w="25560">
              <a:solidFill>
                <a:srgbClr val="41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lex roots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solution t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te the graph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o intersections</a:t>
            </a:r>
            <a:br>
              <a:rPr sz="2600"/>
            </a:b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with x-axi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ing the 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solve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nd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csolv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unc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68880" y="1685880"/>
          <a:ext cx="24098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685880"/>
                    <a:ext cx="24098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5" descr=""/>
          <p:cNvPicPr/>
          <p:nvPr/>
        </p:nvPicPr>
        <p:blipFill>
          <a:blip r:embed="rId3"/>
          <a:srcRect l="0" t="0" r="0" b="33688"/>
          <a:stretch/>
        </p:blipFill>
        <p:spPr>
          <a:xfrm>
            <a:off x="4249800" y="2446200"/>
            <a:ext cx="4367160" cy="15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3724200" y="4446720"/>
            <a:ext cx="3959280" cy="211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Line 7"/>
          <p:cNvSpPr/>
          <p:nvPr/>
        </p:nvSpPr>
        <p:spPr>
          <a:xfrm flipV="1">
            <a:off x="3859200" y="3394080"/>
            <a:ext cx="1797120" cy="29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 polynomial f(x) of degree n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≥ 1 has at least one complex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Remember that complex includes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  <a:ea typeface="Arial"/>
              </a:rPr>
              <a:t>real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Number of Zeros theor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A polynomial of degre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has at most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distinct zero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Explain how theorems apply to these graph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622440" y="506556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413160" y="509904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6248520" y="5097600"/>
            <a:ext cx="2286000" cy="121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njugate Zeroes Theorem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Given a polynomial with real coefficient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+ b</a:t>
            </a:r>
            <a:r>
              <a:rPr b="1" i="1" lang="en-US" sz="3000" spc="-1" strike="noStrike">
                <a:solidFill>
                  <a:srgbClr val="ffff99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s a zero, then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– bi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will also be a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1015920" y="2489040"/>
          <a:ext cx="7027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489040"/>
                    <a:ext cx="7027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5"/>
          <p:cNvSpPr/>
          <p:nvPr/>
        </p:nvSpPr>
        <p:spPr>
          <a:xfrm flipH="1">
            <a:off x="2825640" y="2217600"/>
            <a:ext cx="2355840" cy="48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>
            <a:off x="4087440" y="2216160"/>
            <a:ext cx="1120680" cy="41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5222880" y="2216160"/>
            <a:ext cx="1122480" cy="58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259000" y="4378320"/>
            <a:ext cx="4371840" cy="1557360"/>
            <a:chOff x="2259000" y="4378320"/>
            <a:chExt cx="4371840" cy="1557360"/>
          </a:xfrm>
        </p:grpSpPr>
        <p:pic>
          <p:nvPicPr>
            <p:cNvPr id="291" name="Picture 8" descr=""/>
            <p:cNvPicPr/>
            <p:nvPr/>
          </p:nvPicPr>
          <p:blipFill>
            <a:blip r:embed="rId3"/>
            <a:srcRect l="0" t="54532" r="0" b="0"/>
            <a:stretch/>
          </p:blipFill>
          <p:spPr>
            <a:xfrm>
              <a:off x="2671920" y="4975200"/>
              <a:ext cx="3958920" cy="960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2" name="Line 9"/>
            <p:cNvSpPr/>
            <p:nvPr/>
          </p:nvSpPr>
          <p:spPr>
            <a:xfrm>
              <a:off x="2259000" y="4475160"/>
              <a:ext cx="1744560" cy="803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5998680" y="4378320"/>
              <a:ext cx="179640" cy="85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712880" y="2013120"/>
            <a:ext cx="7431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age 211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ercises 1 – 78  EO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Imaginary Number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By definition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powers if </a:t>
            </a:r>
            <a:r>
              <a:rPr b="0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191120" y="1676520"/>
          <a:ext cx="335268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33526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438280" y="3276720"/>
          <a:ext cx="373392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276720"/>
                    <a:ext cx="37339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6"/>
          <p:cNvGrpSpPr/>
          <p:nvPr/>
        </p:nvGrpSpPr>
        <p:grpSpPr>
          <a:xfrm>
            <a:off x="6508800" y="2433600"/>
            <a:ext cx="2262240" cy="2244600"/>
            <a:chOff x="6508800" y="2433600"/>
            <a:chExt cx="2262240" cy="2244600"/>
          </a:xfrm>
        </p:grpSpPr>
        <p:pic>
          <p:nvPicPr>
            <p:cNvPr id="164" name="Picture 7" descr="j0236531"/>
            <p:cNvPicPr/>
            <p:nvPr/>
          </p:nvPicPr>
          <p:blipFill>
            <a:blip r:embed="rId5"/>
            <a:stretch/>
          </p:blipFill>
          <p:spPr>
            <a:xfrm>
              <a:off x="7742520" y="3421080"/>
              <a:ext cx="10285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8"/>
            <p:cNvSpPr/>
            <p:nvPr/>
          </p:nvSpPr>
          <p:spPr>
            <a:xfrm>
              <a:off x="6508800" y="2433600"/>
              <a:ext cx="1317600" cy="1114560"/>
            </a:xfrm>
            <a:prstGeom prst="wedgeEllipseCallout">
              <a:avLst>
                <a:gd name="adj1" fmla="val 47467"/>
                <a:gd name="adj2" fmla="val 61824"/>
              </a:avLst>
            </a:prstGeom>
            <a:solidFill>
              <a:srgbClr val="669999"/>
            </a:solidFill>
            <a:ln w="25560">
              <a:solidFill>
                <a:srgbClr val="49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It's any number you can imagine</a:t>
              </a:r>
              <a:endParaRPr b="0" lang="en-US" sz="1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Using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we can handle quantities that occasionally show up in mathematical solu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abou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2676600" y="3476520"/>
          <a:ext cx="400824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476520"/>
                    <a:ext cx="4008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2911320" y="5567400"/>
          <a:ext cx="11383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1320" y="5567400"/>
                    <a:ext cx="1138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205240" y="5611680"/>
          <a:ext cx="1079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5240" y="5611680"/>
                    <a:ext cx="1079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bine real numbers with imaginary number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 + b</a:t>
            </a:r>
            <a:r>
              <a:rPr b="1" i="1" lang="en-US" sz="26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1920" y="2708280"/>
            <a:ext cx="1797120" cy="1081080"/>
            <a:chOff x="61920" y="2708280"/>
            <a:chExt cx="1797120" cy="1081080"/>
          </a:xfrm>
        </p:grpSpPr>
        <p:sp>
          <p:nvSpPr>
            <p:cNvPr id="179" name="Text Box 5"/>
            <p:cNvSpPr/>
            <p:nvPr/>
          </p:nvSpPr>
          <p:spPr>
            <a:xfrm>
              <a:off x="61920" y="3421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Real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 flipV="1">
              <a:off x="1084320" y="2708280"/>
              <a:ext cx="293760" cy="71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1979640" y="2752560"/>
            <a:ext cx="2332080" cy="1090440"/>
            <a:chOff x="1979640" y="2752560"/>
            <a:chExt cx="2332080" cy="1090440"/>
          </a:xfrm>
        </p:grpSpPr>
        <p:sp>
          <p:nvSpPr>
            <p:cNvPr id="182" name="Text Box 8"/>
            <p:cNvSpPr/>
            <p:nvPr/>
          </p:nvSpPr>
          <p:spPr>
            <a:xfrm>
              <a:off x="2668680" y="32004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maginary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979640" y="2752560"/>
              <a:ext cx="611280" cy="647640"/>
            </a:xfrm>
            <a:custGeom>
              <a:avLst/>
              <a:gdLst/>
              <a:ahLst/>
              <a:rect l="l" t="t" r="r" b="b"/>
              <a:pathLst>
                <a:path w="385" h="408">
                  <a:moveTo>
                    <a:pt x="385" y="400"/>
                  </a:moveTo>
                  <a:cubicBezTo>
                    <a:pt x="255" y="404"/>
                    <a:pt x="126" y="408"/>
                    <a:pt x="63" y="341"/>
                  </a:cubicBezTo>
                  <a:cubicBezTo>
                    <a:pt x="0" y="274"/>
                    <a:pt x="2" y="137"/>
                    <a:pt x="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aphicFrame>
        <p:nvGraphicFramePr>
          <p:cNvPr id="184" name="Object 10"/>
          <p:cNvGraphicFramePr/>
          <p:nvPr/>
        </p:nvGraphicFramePr>
        <p:xfrm>
          <a:off x="1776240" y="5308560"/>
          <a:ext cx="1020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5308560"/>
                    <a:ext cx="1020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1"/>
          <p:cNvGraphicFramePr/>
          <p:nvPr/>
        </p:nvGraphicFramePr>
        <p:xfrm>
          <a:off x="3659040" y="4770360"/>
          <a:ext cx="12528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4770360"/>
                    <a:ext cx="1252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2"/>
          <p:cNvGraphicFramePr/>
          <p:nvPr/>
        </p:nvGraphicFramePr>
        <p:xfrm>
          <a:off x="5600880" y="5518080"/>
          <a:ext cx="19206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5518080"/>
                    <a:ext cx="1920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rite these complex numbers in standard form   a + b</a:t>
            </a:r>
            <a:r>
              <a:rPr b="1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522440" y="3411360"/>
          <a:ext cx="152064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3411360"/>
                    <a:ext cx="15206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4705200" y="3889440"/>
          <a:ext cx="1436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3889440"/>
                    <a:ext cx="1436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820880" y="4854600"/>
          <a:ext cx="1787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0880" y="4854600"/>
                    <a:ext cx="1787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160960" y="5176800"/>
          <a:ext cx="147492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5176800"/>
                    <a:ext cx="1474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numbers can be combined with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ddi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subtrac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ica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divis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205160" y="4079880"/>
          <a:ext cx="348156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079880"/>
                    <a:ext cx="3481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760320" y="4854600"/>
          <a:ext cx="306540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4854600"/>
                    <a:ext cx="3065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288040" y="5272200"/>
          <a:ext cx="2762280" cy="65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5272200"/>
                    <a:ext cx="27622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ivision technique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y numerator and denominator by the conjugate of the denominator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805040" y="3389400"/>
          <a:ext cx="8348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389400"/>
                    <a:ext cx="8348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5"/>
          <p:cNvGrpSpPr/>
          <p:nvPr/>
        </p:nvGrpSpPr>
        <p:grpSpPr>
          <a:xfrm>
            <a:off x="2781360" y="3103560"/>
            <a:ext cx="3182760" cy="2948040"/>
            <a:chOff x="2781360" y="3103560"/>
            <a:chExt cx="3182760" cy="2948040"/>
          </a:xfrm>
        </p:grpSpPr>
        <p:graphicFrame>
          <p:nvGraphicFramePr>
            <p:cNvPr id="216" name="Object 6"/>
            <p:cNvGraphicFramePr/>
            <p:nvPr/>
          </p:nvGraphicFramePr>
          <p:xfrm>
            <a:off x="2781360" y="3390840"/>
            <a:ext cx="3182760" cy="26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1360" y="3390840"/>
                      <a:ext cx="318276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Oval 7"/>
            <p:cNvSpPr/>
            <p:nvPr/>
          </p:nvSpPr>
          <p:spPr>
            <a:xfrm>
              <a:off x="3811680" y="3206880"/>
              <a:ext cx="1146240" cy="1249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3387600" y="3103560"/>
              <a:ext cx="463680" cy="3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ossible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Reset mod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format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o </a:t>
            </a:r>
            <a:r>
              <a:rPr b="0" lang="en-US" sz="3000" spc="-1" strike="noStrike" u="sng">
                <a:solidFill>
                  <a:srgbClr val="1c1c1c"/>
                </a:solidFill>
                <a:uFillTx/>
                <a:latin typeface="Arial"/>
              </a:rPr>
              <a:t>Rectangula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calculator does 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esired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13400" y="1428840"/>
            <a:ext cx="2890800" cy="154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5078520" y="2484360"/>
            <a:ext cx="3155760" cy="16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5" name="Group 6"/>
          <p:cNvGrpSpPr/>
          <p:nvPr/>
        </p:nvGrpSpPr>
        <p:grpSpPr>
          <a:xfrm>
            <a:off x="4327560" y="5319720"/>
            <a:ext cx="4456080" cy="984240"/>
            <a:chOff x="4327560" y="5319720"/>
            <a:chExt cx="4456080" cy="984240"/>
          </a:xfrm>
        </p:grpSpPr>
        <p:pic>
          <p:nvPicPr>
            <p:cNvPr id="226" name="Picture 7" descr=""/>
            <p:cNvPicPr/>
            <p:nvPr/>
          </p:nvPicPr>
          <p:blipFill>
            <a:blip r:embed="rId3"/>
            <a:srcRect l="0" t="54975" r="0" b="0"/>
            <a:stretch/>
          </p:blipFill>
          <p:spPr>
            <a:xfrm>
              <a:off x="4524480" y="5354640"/>
              <a:ext cx="3949560" cy="949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Oval 8"/>
            <p:cNvSpPr/>
            <p:nvPr/>
          </p:nvSpPr>
          <p:spPr>
            <a:xfrm>
              <a:off x="7624800" y="5653080"/>
              <a:ext cx="1158840" cy="477720"/>
            </a:xfrm>
            <a:prstGeom prst="ellipse">
              <a:avLst/>
            </a:prstGeom>
            <a:noFill/>
            <a:ln w="190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327560" y="5319720"/>
              <a:ext cx="3206880" cy="514440"/>
            </a:xfrm>
            <a:prstGeom prst="line">
              <a:avLst/>
            </a:prstGeom>
            <a:ln w="19080">
              <a:solidFill>
                <a:srgbClr val="d8d8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http://upload.wikimedia.org/wikipedia/commons/0/0d/TI-89Titanium.png"/>
          <p:cNvPicPr/>
          <p:nvPr/>
        </p:nvPicPr>
        <p:blipFill>
          <a:blip r:embed="rId1"/>
          <a:srcRect l="0" t="42599" r="0" b="22273"/>
          <a:stretch/>
        </p:blipFill>
        <p:spPr>
          <a:xfrm>
            <a:off x="3594240" y="2270160"/>
            <a:ext cx="5445000" cy="40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Operations with complex on calculato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38120" y="3811680"/>
            <a:ext cx="2962440" cy="916920"/>
          </a:xfrm>
          <a:prstGeom prst="rect">
            <a:avLst/>
          </a:prstGeom>
          <a:solidFill>
            <a:srgbClr val="669999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ake sure to use the correct character for 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 Use 2</a:t>
            </a:r>
            <a:r>
              <a:rPr b="0" lang="en-US" sz="1800" spc="-1" strike="noStrike" baseline="30000">
                <a:solidFill>
                  <a:srgbClr val="ffffcc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-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080040" y="3360600"/>
            <a:ext cx="387360" cy="451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4278240" y="2301840"/>
            <a:ext cx="750960" cy="45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932360" y="2752560"/>
            <a:ext cx="1147680" cy="83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23:44:35Z</dcterms:created>
  <dc:creator>Steve Armstrong</dc:creator>
  <dc:description/>
  <dc:language>en-US</dc:language>
  <cp:lastModifiedBy>LEGION</cp:lastModifiedBy>
  <dcterms:modified xsi:type="dcterms:W3CDTF">2017-07-06T06:31:58Z</dcterms:modified>
  <cp:revision>13</cp:revision>
  <dc:subject/>
  <dc:title>The Fundamental Theorem of Algebra</dc:title>
</cp:coreProperties>
</file>